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F0E-BA71-40FC-B6C6-7C641908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D13-6473-4637-BD43-A482C466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DF2-57C0-4E8A-B71F-D724CBA6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D42-2492-4F0C-9013-7968A11E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C0A9-2604-463C-B3DC-EA1646E9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27BF-38C4-4944-A82F-D967E8AA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5785-4068-4D3C-B96A-F2E6D6C6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A249-B817-46A7-8765-9A6FC34C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2FD5-192B-4BD3-BAED-C9202582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4B90-B27D-4E98-B30C-A4C160EE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2C6C-07E6-4B68-8ED0-54BF8575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B97-351C-4A08-A14A-12C3D216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FC04-7880-475A-958B-AA33D77B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F066-A1E1-4C9A-BB2A-69ECD848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3AFA-9E69-455F-A5D7-036590CF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AA26-08CC-42D4-B13D-A128A7BB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8059-EFD7-46B2-8A11-645D5B40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0A2-B04F-4142-AC5A-475D07F7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24B-494B-4911-B2C1-10F946A9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6E6-834E-424F-9DA1-CE040AC7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045-2C02-44CE-9C49-183B5B2C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9F9-92C1-4B03-AF80-38F0E6C3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16B-9316-48D1-9337-F6D15E43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51D-5A22-4F77-BB2A-BD71D7C2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15DF-99D5-4C2B-ADCB-94C26E39D0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C5DE-C884-4F8D-9799-3229645757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e2aa"/>
            </a:gs>
            <a:gs pos="50000">
              <a:srgbClr val="eaeaea"/>
            </a:gs>
            <a:gs pos="100000">
              <a:srgbClr val="d2e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1029"/>
          <p:cNvSpPr txBox="1"/>
          <p:nvPr/>
        </p:nvSpPr>
        <p:spPr>
          <a:xfrm>
            <a:off x="539640" y="1052640"/>
            <a:ext cx="77756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00"/>
                </a:solidFill>
                <a:latin typeface="Times New Roman"/>
              </a:rPr>
              <a:t>ТЕОРЕМА ВИЕТА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00"/>
              </a:solidFill>
              <a:latin typeface="Times New Roman"/>
              <a:ea typeface="Times New Roman"/>
            </a:endParaRPr>
          </a:p>
        </p:txBody>
      </p:sp>
      <p:pic>
        <p:nvPicPr>
          <p:cNvPr id="121" name="Picture 2049" descr="j0178207"/>
          <p:cNvPicPr/>
          <p:nvPr/>
        </p:nvPicPr>
        <p:blipFill>
          <a:blip r:embed="rId1"/>
          <a:stretch/>
        </p:blipFill>
        <p:spPr>
          <a:xfrm rot="19728000">
            <a:off x="468000" y="620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0" descr="j0178208"/>
          <p:cNvPicPr/>
          <p:nvPr/>
        </p:nvPicPr>
        <p:blipFill>
          <a:blip r:embed="rId2"/>
          <a:stretch/>
        </p:blipFill>
        <p:spPr>
          <a:xfrm rot="19224000">
            <a:off x="755280" y="4508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51" descr="j0178209"/>
          <p:cNvPicPr/>
          <p:nvPr/>
        </p:nvPicPr>
        <p:blipFill>
          <a:blip r:embed="rId3"/>
          <a:stretch/>
        </p:blipFill>
        <p:spPr>
          <a:xfrm rot="2316600">
            <a:off x="788472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52" descr="j0178210"/>
          <p:cNvPicPr/>
          <p:nvPr/>
        </p:nvPicPr>
        <p:blipFill>
          <a:blip r:embed="rId4"/>
          <a:stretch/>
        </p:blipFill>
        <p:spPr>
          <a:xfrm rot="2572200">
            <a:off x="7092720" y="2599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53" descr="j0178230"/>
          <p:cNvPicPr/>
          <p:nvPr/>
        </p:nvPicPr>
        <p:blipFill>
          <a:blip r:embed="rId5"/>
          <a:stretch/>
        </p:blipFill>
        <p:spPr>
          <a:xfrm rot="20122200">
            <a:off x="3419280" y="494136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55" descr="j0178231"/>
          <p:cNvPicPr/>
          <p:nvPr/>
        </p:nvPicPr>
        <p:blipFill>
          <a:blip r:embed="rId6"/>
          <a:stretch/>
        </p:blipFill>
        <p:spPr>
          <a:xfrm rot="1520400">
            <a:off x="5435280" y="393372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042920" y="2492280"/>
            <a:ext cx="75614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 появилась теорема Ви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 доказать теор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очему теорема актуальна и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ак работает теорема Пифагора в математических задач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2400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сторические условия возникновения теоремы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Ви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7015320" y="1700280"/>
            <a:ext cx="2128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133640" y="2351160"/>
            <a:ext cx="7162560" cy="247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7209000" y="19080"/>
            <a:ext cx="1915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1400" y="203040"/>
            <a:ext cx="8912160" cy="1684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49320" y="2216160"/>
            <a:ext cx="88614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знакомится с историческими условия возникновения теорем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ет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учит различные способы доказательства теорем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ет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1641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343080" y="2271600"/>
            <a:ext cx="854676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знакомится с применение теоремы к решению древних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учит основные виды современных геометрических задач, решаемых при помощи теорем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ет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6994440" y="0"/>
            <a:ext cx="2129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20" y="519120"/>
            <a:ext cx="8921880" cy="1650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363600" y="3284640"/>
            <a:ext cx="79628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знакомится с применение теоремы к решению современных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знает как используется теорема в современном ми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900000" y="2708280"/>
            <a:ext cx="7336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рансуа Виет – отец алгебры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Viete_2"/>
          <p:cNvPicPr/>
          <p:nvPr/>
        </p:nvPicPr>
        <p:blipFill>
          <a:blip r:embed="rId1"/>
          <a:stretch/>
        </p:blipFill>
        <p:spPr>
          <a:xfrm>
            <a:off x="179280" y="404640"/>
            <a:ext cx="4410360" cy="6191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4643280" y="0"/>
            <a:ext cx="374508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Monotype Corsiva"/>
              </a:rPr>
              <a:t>Франсуа Виет (1540 – 16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По праву достойна в стихах быть восп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о свойствах корней теорема Вие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(А.Гур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4:14:09Z</dcterms:created>
  <dc:creator>User</dc:creator>
  <dc:description/>
  <dc:language>en-US</dc:language>
  <cp:lastModifiedBy>ILYA</cp:lastModifiedBy>
  <dcterms:modified xsi:type="dcterms:W3CDTF">2010-05-28T04:30:44Z</dcterms:modified>
  <cp:revision>54</cp:revision>
  <dc:subject/>
  <dc:title>Слайд 1</dc:title>
</cp:coreProperties>
</file>